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LASER.WAV" ContentType="audio/x-wav"/>
  <Override PartName="/ppt/media/image4.wmf" ContentType="image/x-wmf"/>
  <Override PartName="/ppt/media/image2.wmf" ContentType="image/x-wmf"/>
  <Override PartName="/ppt/media/image3.wmf" ContentType="image/x-wmf"/>
  <Override PartName="/ppt/media/TYPE.WAV" ContentType="audio/x-wav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87B8-1F57-42C5-8CA7-DD1C4C93AC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viding Fraction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. Emerlina C. Binuy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Fracti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Emerlina C. Binu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1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vert the diviso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2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ge the division sign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a multiplication sig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3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oss cancel if you can.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ltiply the numerators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ltiply the denomin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t the divis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the division sig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multiplication sig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cancel if you can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the numerator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the denomin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to divide fractions and whole numbers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Write the whole number as a fraction. Use 1 as the denominato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vide 3 ÷2/3 = 3/1 ÷ 2/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1.  Write the whole number as a Fraction.   3/1 ÷ 2/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2. Invert the divisor. Change the division sign to a multiplication sign. 3/1 x 3/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divide fractions and whole numbers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Write the whole number as a fraction. Use 1 as the denomin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 3 ÷2/3 = 3/1 ÷ 2/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.  Write the whole number as a Fraction.   3/1 ÷ 2/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. Invert the divisor. Change the division sign to a multiplication sign. 3/1 x 3/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3. Multiply the numerators and denominators. 3x3 = 9/2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1x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4. Write the improper fraction as a mixed number.   9/2 = 4  and 1/2.  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. Multiply the numerators and denominators. 3x3 = 9/2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1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4. Write the improper fraction as a mixed number.   9/2 = 4  and 1/2.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minder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change an improper fraction to a mixed number, divide the numerator by the denominator. Put the remainder over the denominato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inder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hange an improper fraction to a mixed number, divide the numerator by the denominator. Put the remainder over the denomin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E60F-9C05-46F0-ABB7-235290214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6B97-78BB-46CB-903C-E7E0A260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B023-65AC-4E83-923A-03081326E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C695-99FD-42F3-AA6F-81062A1B7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7E588-0023-4CDC-828E-7378CFC4B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691CA-8077-487F-91F7-FD8E1D23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3E9A1-F86C-4BB6-91B7-DC470CA8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7D439-DD78-46BC-B788-255928D4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9D32E9-55C9-4D1D-93B0-CF6C44C4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2D620-36DE-425A-AF05-D49F3537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327DE-51D4-442F-A04B-C447D9AE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8464-3899-4C1D-B459-FB6DB79D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0C5BB-5597-44EA-8640-83E54AC1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BC687-FEB2-4566-A00E-97D4C683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0C3D5-BC1A-4358-A498-3CBBC964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297E4-C5E3-4EF3-8720-8F5FABB20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9CB66-F294-4085-ACD7-7AEB3D8C5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B575-81ED-4886-A33A-3D51D05C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A3B1-43CD-4FE2-85BF-D7805433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2FF5-7C4F-47B1-99D1-668EC570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BB21-8F6B-4112-B66F-EC750713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CB92-15D9-4FBC-9872-3B8D305A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3C2B-B866-40D7-949B-E5DD3932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8A70-D1C9-4789-85B5-05413FB6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4625-9283-4E28-998C-FB2B45152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B99A-F2C8-4412-B881-3478D48CB5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467480" cy="2209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viding Fraction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y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r. Emerlina C. Binuy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Object 5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205740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6400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1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vert the divis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2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 the division sig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a multiplication sig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3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oss cancel if you can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ltiply the numerators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ltiply the denominat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Object 4" descr=""/>
          <p:cNvPicPr/>
          <p:nvPr/>
        </p:nvPicPr>
        <p:blipFill>
          <a:blip r:embed="rId1"/>
          <a:stretch/>
        </p:blipFill>
        <p:spPr>
          <a:xfrm>
            <a:off x="6477120" y="380880"/>
            <a:ext cx="2082600" cy="632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ow to divide fractions and whole number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* Write the whole number as a fraction. Use 1 as the denominat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2819520"/>
            <a:ext cx="6553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vide 3 ÷2/3 = 3/1 ÷ 2/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1.  Write the whole number as a Fraction.   3/1 ÷ 2/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2. Invert the divisor. Change the division sign to a multiplication sign. 3/1 x 3/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7238880" y="1905120"/>
            <a:ext cx="1067040" cy="41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7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75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75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75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75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Object 3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2362320" cy="4114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440" y="2285640"/>
            <a:ext cx="5715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3. Multiply the numerators and denominators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3x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9/2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1x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4. Write the improper fraction as a mixed number.   9/2 = 4  and 1/2.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75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75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minder: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change an improper fraction to a mixed number, divide the numerator by the denominator. Put the remainder over the denominat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Object 3" descr=""/>
          <p:cNvPicPr/>
          <p:nvPr/>
        </p:nvPicPr>
        <p:blipFill>
          <a:blip r:embed="rId1"/>
          <a:stretch/>
        </p:blipFill>
        <p:spPr>
          <a:xfrm>
            <a:off x="5029200" y="4419720"/>
            <a:ext cx="2895480" cy="212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5:54:18Z</dcterms:created>
  <dc:creator>emerlina binuya</dc:creator>
  <dc:description/>
  <dc:language>en-US</dc:language>
  <cp:lastModifiedBy>RomaK</cp:lastModifiedBy>
  <dcterms:modified xsi:type="dcterms:W3CDTF">2015-09-04T07:39:34Z</dcterms:modified>
  <cp:revision>11</cp:revision>
  <dc:subject/>
  <dc:title>Dividing Fractions</dc:title>
</cp:coreProperties>
</file>